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E3BF-26A3-4DDB-A629-F33A82A1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1133-D6CA-43F4-BD46-E812EFC8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AF6-197D-4802-AFC9-809DF060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020-6D54-4247-A51E-00D093E5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29D-FACC-467A-BCC5-0AFD2408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441-D572-4EFC-83BC-29428BAA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E9F-1EDE-4966-ABD4-CBF92141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CD8-F89B-4F06-8FFA-930CF257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BB4-2DB9-47EB-A5D8-1D1D10C7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E45-055C-495F-B9D8-3202327F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5E5-5AB0-4A0A-A96B-9192F99B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335-B670-46E8-88E0-0DA3118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E76-95E1-4EAB-ABED-F4D7E701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D62-0C42-4032-95EB-BC4EF53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5857-CDD7-488F-95E4-D8449B39B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228600" y="1295280"/>
            <a:ext cx="861048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todos?  Yo estoy muy feliz porque el día esta muy bonito ¿ Qué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4864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y penosa también. Mi familia es muy importante para 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938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ver una película de acción por que yo estoy muy cansa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ál película quieres ir a v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bien y si el día esta muy bonito 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146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no tengo mascotas pero mi abuela tiene un gato. Mis abuelos son muy divertidos y ellos ama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 los animales y yo me gustan los gatos.¿ Y tu tienes herman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41560" y="6095880"/>
            <a:ext cx="64116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5791320"/>
            <a:ext cx="51055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no tengo hermanos soy hija única. Yo estoy triste por qué soy hija única. Pero soy feliz por qu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mi amiga y por qué amo a mis padres y por qué ellos me aman también. ¿ Tus papas está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rabajando?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econds ago            Octubre 22, d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 Si ustedes tienen mascotas cuántas mascotas tienen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Photo on 2011-10-21 at 13.53 #2.jpg"/>
          <p:cNvPicPr/>
          <p:nvPr/>
        </p:nvPicPr>
        <p:blipFill>
          <a:blip r:embed="rId1"/>
          <a:stretch/>
        </p:blipFill>
        <p:spPr>
          <a:xfrm>
            <a:off x="438120" y="457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7"/>
          <p:cNvSpPr/>
          <p:nvPr/>
        </p:nvSpPr>
        <p:spPr>
          <a:xfrm>
            <a:off x="1371600" y="10666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1371600" y="380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s bien porque Ya me voy Adió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1371600" y="24382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1371600" y="1752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1:36Z</dcterms:created>
  <dc:creator>FriscoISD</dc:creator>
  <dc:description/>
  <dc:language>en-US</dc:language>
  <cp:lastModifiedBy>User</cp:lastModifiedBy>
  <dcterms:modified xsi:type="dcterms:W3CDTF">2013-01-02T14:59:52Z</dcterms:modified>
  <cp:revision>111</cp:revision>
  <dc:subject/>
  <dc:title>Profile</dc:title>
</cp:coreProperties>
</file>